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DC44-4622-4163-96B6-A3B3124FA3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0831-222C-46E4-9EEA-F2B50F6AA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D259-1A58-4B2C-88F8-9CD682BB9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23DF-E9DA-4490-A043-EB7B60BE0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B7BC-C332-46A2-8D3F-388607796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D16D-4B04-4233-8275-AF72D3ABF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BD01-F7D6-465E-96FF-F6DE1A51B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D513-F4F4-421F-B48A-9C622374A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664D-6B22-41C3-98EE-0E17953D3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C622-B475-49E9-8B62-145398623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35B2-812D-4058-9F62-3ECA4ABA5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C3F-343D-4DC7-BB10-BA484351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2AD-1190-48BF-9355-1427E41F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E32-A2B6-4749-A636-D9384B78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726-DBFD-4401-977A-3960E9C8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ADF-B7B5-4F68-B791-5EA4EAE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AB4-C893-4AF4-AA0A-8038571B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4A7-3B0D-42CD-BF6E-FE947F2E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6CE-2818-4253-9774-CEB77D4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343-9F20-4418-8150-C8388BE3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62A-9F72-48D6-94FF-012762B7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643-7F75-400D-88B2-E5676CC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C73-6CEA-4963-911A-5844196E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6C31-8693-416E-B82A-B4E422C65E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C39E-5B73-4324-8E1A-B6D3748F6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http://pawandelhirockstar.com/wp-content/uploads/2011/07/nature-wallpaper-for-desktop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7311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5.1 Midsegments of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44"/>
          <p:cNvSpPr/>
          <p:nvPr/>
        </p:nvSpPr>
        <p:spPr>
          <a:xfrm>
            <a:off x="3962520" y="2743200"/>
            <a:ext cx="1981080" cy="1440"/>
          </a:xfrm>
          <a:prstGeom prst="line">
            <a:avLst/>
          </a:prstGeom>
          <a:ln w="3816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se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419360"/>
            <a:ext cx="8686800" cy="1523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 5-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iangle Midsegment Theorem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segment joins the midpoints of two sides of a triangle, then the segment i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third side, and i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 leng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2666880" y="1981080"/>
            <a:ext cx="4114800" cy="1602000"/>
            <a:chOff x="2666880" y="1981080"/>
            <a:chExt cx="4114800" cy="1602000"/>
          </a:xfrm>
        </p:grpSpPr>
        <p:sp>
          <p:nvSpPr>
            <p:cNvPr id="54" name="Straight Connector 9"/>
            <p:cNvSpPr/>
            <p:nvPr/>
          </p:nvSpPr>
          <p:spPr>
            <a:xfrm>
              <a:off x="2666880" y="3581640"/>
              <a:ext cx="4114800" cy="1440"/>
            </a:xfrm>
            <a:prstGeom prst="line">
              <a:avLst/>
            </a:prstGeom>
            <a:ln w="38160">
              <a:solidFill>
                <a:srgbClr val="0a6d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1"/>
            <p:cNvSpPr/>
            <p:nvPr/>
          </p:nvSpPr>
          <p:spPr>
            <a:xfrm flipV="1">
              <a:off x="2666880" y="1981080"/>
              <a:ext cx="2438280" cy="1600560"/>
            </a:xfrm>
            <a:prstGeom prst="line">
              <a:avLst/>
            </a:prstGeom>
            <a:ln w="38160">
              <a:solidFill>
                <a:srgbClr val="0a6d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>
              <a:off x="5105160" y="1981080"/>
              <a:ext cx="1676520" cy="1600560"/>
            </a:xfrm>
            <a:prstGeom prst="line">
              <a:avLst/>
            </a:prstGeom>
            <a:ln w="38160">
              <a:solidFill>
                <a:srgbClr val="0a6d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6"/>
          <p:cNvGrpSpPr/>
          <p:nvPr/>
        </p:nvGrpSpPr>
        <p:grpSpPr>
          <a:xfrm>
            <a:off x="5410080" y="2666880"/>
            <a:ext cx="152640" cy="152640"/>
            <a:chOff x="5410080" y="2666880"/>
            <a:chExt cx="152640" cy="152640"/>
          </a:xfrm>
        </p:grpSpPr>
        <p:sp>
          <p:nvSpPr>
            <p:cNvPr id="58" name="Straight Connector 23"/>
            <p:cNvSpPr/>
            <p:nvPr/>
          </p:nvSpPr>
          <p:spPr>
            <a:xfrm>
              <a:off x="5410080" y="2666880"/>
              <a:ext cx="152640" cy="7632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5"/>
            <p:cNvSpPr/>
            <p:nvPr/>
          </p:nvSpPr>
          <p:spPr>
            <a:xfrm flipH="1">
              <a:off x="5410080" y="2743200"/>
              <a:ext cx="152640" cy="7632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5410080" y="3505320"/>
            <a:ext cx="152640" cy="151200"/>
            <a:chOff x="5410080" y="3505320"/>
            <a:chExt cx="152640" cy="151200"/>
          </a:xfrm>
        </p:grpSpPr>
        <p:sp>
          <p:nvSpPr>
            <p:cNvPr id="61" name="Straight Connector 28"/>
            <p:cNvSpPr/>
            <p:nvPr/>
          </p:nvSpPr>
          <p:spPr>
            <a:xfrm>
              <a:off x="5410080" y="3505320"/>
              <a:ext cx="152640" cy="7596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9"/>
            <p:cNvSpPr/>
            <p:nvPr/>
          </p:nvSpPr>
          <p:spPr>
            <a:xfrm flipH="1">
              <a:off x="5410080" y="3580560"/>
              <a:ext cx="152640" cy="7596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Straight Connector 30"/>
          <p:cNvSpPr/>
          <p:nvPr/>
        </p:nvSpPr>
        <p:spPr>
          <a:xfrm>
            <a:off x="3886200" y="2743200"/>
            <a:ext cx="2076480" cy="1440"/>
          </a:xfrm>
          <a:prstGeom prst="line">
            <a:avLst/>
          </a:prstGeom>
          <a:ln w="3816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2"/>
          <p:cNvSpPr/>
          <p:nvPr/>
        </p:nvSpPr>
        <p:spPr>
          <a:xfrm>
            <a:off x="3352680" y="3048120"/>
            <a:ext cx="152640" cy="75960"/>
          </a:xfrm>
          <a:prstGeom prst="line">
            <a:avLst/>
          </a:prstGeom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34"/>
          <p:cNvSpPr/>
          <p:nvPr/>
        </p:nvSpPr>
        <p:spPr>
          <a:xfrm>
            <a:off x="4495680" y="2286000"/>
            <a:ext cx="152640" cy="76320"/>
          </a:xfrm>
          <a:prstGeom prst="line">
            <a:avLst/>
          </a:prstGeom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8"/>
          <p:cNvGrpSpPr/>
          <p:nvPr/>
        </p:nvGrpSpPr>
        <p:grpSpPr>
          <a:xfrm>
            <a:off x="5333760" y="2209680"/>
            <a:ext cx="228240" cy="152640"/>
            <a:chOff x="5333760" y="2209680"/>
            <a:chExt cx="228240" cy="152640"/>
          </a:xfrm>
        </p:grpSpPr>
        <p:sp>
          <p:nvSpPr>
            <p:cNvPr id="67" name="Straight Connector 33"/>
            <p:cNvSpPr/>
            <p:nvPr/>
          </p:nvSpPr>
          <p:spPr>
            <a:xfrm flipH="1">
              <a:off x="5333760" y="2209680"/>
              <a:ext cx="152280" cy="7632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35"/>
            <p:cNvSpPr/>
            <p:nvPr/>
          </p:nvSpPr>
          <p:spPr>
            <a:xfrm flipH="1">
              <a:off x="5409720" y="2286000"/>
              <a:ext cx="152280" cy="7632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9"/>
          <p:cNvGrpSpPr/>
          <p:nvPr/>
        </p:nvGrpSpPr>
        <p:grpSpPr>
          <a:xfrm>
            <a:off x="6095520" y="2971080"/>
            <a:ext cx="228240" cy="151920"/>
            <a:chOff x="6095520" y="2971080"/>
            <a:chExt cx="228240" cy="151920"/>
          </a:xfrm>
        </p:grpSpPr>
        <p:sp>
          <p:nvSpPr>
            <p:cNvPr id="70" name="Straight Connector 40"/>
            <p:cNvSpPr/>
            <p:nvPr/>
          </p:nvSpPr>
          <p:spPr>
            <a:xfrm flipH="1">
              <a:off x="6095520" y="2971080"/>
              <a:ext cx="152280" cy="7596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41"/>
            <p:cNvSpPr/>
            <p:nvPr/>
          </p:nvSpPr>
          <p:spPr>
            <a:xfrm flipH="1">
              <a:off x="6171480" y="3047040"/>
              <a:ext cx="152280" cy="7596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Oval 42"/>
          <p:cNvSpPr/>
          <p:nvPr/>
        </p:nvSpPr>
        <p:spPr>
          <a:xfrm>
            <a:off x="3886200" y="266688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3"/>
          <p:cNvSpPr/>
          <p:nvPr/>
        </p:nvSpPr>
        <p:spPr>
          <a:xfrm>
            <a:off x="5867280" y="2666880"/>
            <a:ext cx="15264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28600" y="914400"/>
            <a:ext cx="868680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dsegment of a Triangl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gment connecting the midpoints of two sides of a triang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1"/>
          <p:cNvSpPr/>
          <p:nvPr/>
        </p:nvSpPr>
        <p:spPr>
          <a:xfrm>
            <a:off x="3962520" y="2741760"/>
            <a:ext cx="20304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152280" y="1905120"/>
            <a:ext cx="89154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76320" y="4343400"/>
            <a:ext cx="89154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619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-0.13021 0.12222 E">
                                      <p:cBhvr>
                                        <p:cTn id="3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0.08906 0.12245 E">
                                      <p:cBhvr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L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04920" y="9144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         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idpoi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685800" y="1015920"/>
                <a:ext cx="825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F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Box 7"/>
          <p:cNvSpPr/>
          <p:nvPr/>
        </p:nvSpPr>
        <p:spPr>
          <a:xfrm>
            <a:off x="304920" y="3502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6. 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1"/>
          <a:srcRect l="3253" t="18033" r="9301" b="12114"/>
          <a:stretch/>
        </p:blipFill>
        <p:spPr>
          <a:xfrm>
            <a:off x="5334120" y="838080"/>
            <a:ext cx="3581280" cy="236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rcRect l="4608" t="21714" r="10088" b="10081"/>
          <a:stretch/>
        </p:blipFill>
        <p:spPr>
          <a:xfrm>
            <a:off x="6019920" y="4191120"/>
            <a:ext cx="2819160" cy="1676160"/>
          </a:xfrm>
          <a:prstGeom prst="rect">
            <a:avLst/>
          </a:prstGeom>
          <a:ln w="0">
            <a:noFill/>
          </a:ln>
        </p:spPr>
      </p:pic>
      <p:sp>
        <p:nvSpPr>
          <p:cNvPr id="84" name="Freeform 4113"/>
          <p:cNvSpPr/>
          <p:nvPr/>
        </p:nvSpPr>
        <p:spPr>
          <a:xfrm>
            <a:off x="8137440" y="451152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60" h="1">
                <a:moveTo>
                  <a:pt x="0" y="0"/>
                </a:moveTo>
                <a:lnTo>
                  <a:pt x="2259" y="0"/>
                </a:lnTo>
                <a:lnTo>
                  <a:pt x="0" y="0"/>
                </a:lnTo>
                <a:close/>
              </a:path>
            </a:pathLst>
          </a:custGeom>
          <a:solidFill>
            <a:srgbClr val="0f6fc6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Se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04920" y="91440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         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idpoi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each midsegment and the side of the triangle parallel t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673200" y="1022400"/>
                <a:ext cx="850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DE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Picture 7" descr=""/>
          <p:cNvPicPr/>
          <p:nvPr/>
        </p:nvPicPr>
        <p:blipFill>
          <a:blip r:embed="rId1"/>
          <a:srcRect l="8207" t="16922" r="9748" b="8164"/>
          <a:stretch/>
        </p:blipFill>
        <p:spPr>
          <a:xfrm>
            <a:off x="5410080" y="1371600"/>
            <a:ext cx="3048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Se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04920" y="9144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               and       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1028880" y="1015920"/>
                <a:ext cx="1104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VUZ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" name="Picture 7" descr=""/>
          <p:cNvPicPr/>
          <p:nvPr/>
        </p:nvPicPr>
        <p:blipFill>
          <a:blip r:embed="rId1"/>
          <a:srcRect l="0" t="17024" r="0" b="0"/>
          <a:stretch/>
        </p:blipFill>
        <p:spPr>
          <a:xfrm>
            <a:off x="5029200" y="762120"/>
            <a:ext cx="3848040" cy="2228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304920" y="3581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,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2666880" y="990720"/>
                <a:ext cx="1143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XU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219560" cy="2657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se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04920" y="762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057560" cy="30002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ck it up a not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04920" y="762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, x, y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Round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2519280" y="1173240"/>
            <a:ext cx="4943520" cy="5238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that previous knowledg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52280" y="762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equations for the lines that represent the midsegments of the following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http://pawandelhirockstar.com/wp-content/uploads/2011/07/nature-wallpaper-for-desktop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7311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1 Midsegments of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0" y="2057400"/>
            <a:ext cx="9144000" cy="6426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HW: p.262 #1-25 odd, 32,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9:34:43Z</dcterms:created>
  <dc:creator>Stephanie Ruth Rentel</dc:creator>
  <dc:description/>
  <dc:language>en-US</dc:language>
  <cp:lastModifiedBy>m</cp:lastModifiedBy>
  <cp:lastPrinted>2011-10-19T17:53:29Z</cp:lastPrinted>
  <dcterms:modified xsi:type="dcterms:W3CDTF">2012-05-07T17:24:57Z</dcterms:modified>
  <cp:revision>55</cp:revision>
  <dc:subject/>
  <dc:title>Slide 1</dc:title>
</cp:coreProperties>
</file>